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2A5D3-FD5A-44FF-ACA2-C40189004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B6308-94E5-4279-BA8B-87C21C1B2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8193A-D8F5-41AE-A943-A84C05029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E502B-A66F-4BDE-AED1-0BE464A39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C0BAC-EEAD-4F7E-8672-11739FA98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0E7A9-444E-4445-8379-12A731CA3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162C7-4569-42F2-B638-B4B439B83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E676-93ED-4687-9DB6-07206D89E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2391E-1843-4AC0-B3DF-F828214C6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3135F-693E-4B52-BB0F-19BE901C3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106F-F7CD-42CD-BD1B-2E4B56170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4BC7-2C23-40B7-9E1B-766F5D822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C4DC-1CBB-4D54-A97D-2AF93877AB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2:49Z</dcterms:modified>
  <cp:revision>43</cp:revision>
  <dc:subject/>
  <dc:title>SALARIUL</dc:title>
</cp:coreProperties>
</file>